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0F937-C8FD-4633-A364-608BB633D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7C47A-33CA-475E-ABAE-35D135F30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7A1CEE-28A3-4288-97C9-0415C4D40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0A040-BEDC-4206-B729-9E862EEA4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451B0D-759E-4798-B147-1CA12E18A7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27892B-DA7D-4570-93A0-2EDC891F39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77A2A9-9DED-4897-9BDE-0FE4027E3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BF08F-D445-4C45-B27D-42783ED11D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20998-9534-49FF-A799-30C2853C5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B1FD9-6FBC-471E-A688-70743433D4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F2759-3119-4027-B063-36FF102E2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0C16F-4F55-4BFE-9F55-82AEEF9D7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1E5DE-DCD1-45C5-B206-704C23792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2EBC9-2682-4590-A9AE-4ADCC96E6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2CB4B-CC52-4297-89E1-35D9F595D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8E482E-ED1C-4418-8621-9119B1023C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EA975B-C48F-4124-B835-353B544DD2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242C65-84F0-4815-A6D4-0D4F557572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8898F3-8173-489C-A7E0-4BABD4CCFF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C505E7-C54A-4741-89C5-AB90192322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15303E-62EE-478E-A70A-FF91B6BC32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D3298B-6CC2-4DF3-A16F-C8D19C4E20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57AEB-5701-4C9C-AE1D-755D65793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6016CD-17F1-4FA8-B882-61FE399050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42404D-0905-4CE5-B447-0FA7AF7F3A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228BF6-3A60-4308-B464-93E6AFB318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83701D-092C-4CDF-973D-286E8A60B1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1EEFAA-6D8C-4D04-8A05-F5FC6C287A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A9E57C-B40A-4308-AC49-8429AECF44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D459E2-0039-4421-A320-A559C996C3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9C4E96-88DE-40D0-BB74-17F7C80D20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C81D32-E444-4ACA-9F49-3561B7F27F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777C53-3394-4E4E-ADA2-E3A92B5050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A6FC5-C9B5-4CAC-A11A-F9E7419D6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56736F-DD3C-4B9C-86F4-D00B5D4B5A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869C64-949F-45E1-810E-EED38562FF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8CF3B6-D44C-4C7A-A469-90028005D9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718263-031E-4787-9772-EC68FF304B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64D107-F466-4A9F-8D08-FA4B0967E4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45E320-EE58-4BF5-88C7-0C565AD00F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3C05AE-EB8B-4E2A-BA9D-C7B3EEBEF2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D507ED-D4D0-4C99-A72F-9E708799E1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C31CE3-CE5B-4099-9105-B181118E6F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2CD253-98E1-43C1-9CB8-4693AD3FBF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80BE9-E958-4B80-A9FD-29434EAD9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D7CBDF-8C94-49BB-973C-E1330D98EA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D6D53E-E9C5-4854-9FE4-68A9168E10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344896-07C9-4B83-9C64-FD5CF4B426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F68031-FC74-464B-8832-5A3C14A6B5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1F1D1F-B6D4-4CAE-AF24-E6174E422B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4981D5-C0FE-4393-97F3-72D2C88BAD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764CAD-B2C1-49E3-B43D-CA4711E74D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C2A8FD-71E6-4F6F-AEB1-55D8C42E30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A47F3F-BFB7-4A6B-BD70-64734EB5F6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FF5E73-326C-4DE0-A24D-417A065734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83B17-FC6B-4BAD-828C-790778C33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19332E-6A0F-47E0-8F9F-CE70E970DA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AD0B1-3B56-4ADA-8A60-4B890F75B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C03CF-511E-46E4-8F65-66D936440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B4C0B-9795-4A6A-A67C-BE6084C4D0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3C629-E161-4687-8EB8-5D150EE9DF50}" type="slidenum">
              <a:rPr b="0" lang="en-CA"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2"/>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9"/>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0"/>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1B6FD-0C32-412B-9DEB-F9817F6AB848}" type="slidenum">
              <a:rPr b="0" lang="en-CA"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10"/>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9"/>
          <p:cNvGrpSpPr/>
          <p:nvPr/>
        </p:nvGrpSpPr>
        <p:grpSpPr>
          <a:xfrm>
            <a:off x="60480" y="60480"/>
            <a:ext cx="9028080" cy="6711840"/>
            <a:chOff x="60480" y="60480"/>
            <a:chExt cx="9028080" cy="6711840"/>
          </a:xfrm>
        </p:grpSpPr>
        <p:pic>
          <p:nvPicPr>
            <p:cNvPr id="91" name="Rounded Rectangle 9"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6"/>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7"/>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8"/>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3833C-E88F-4B7B-AD36-3875A3716F4B}" type="slidenum">
              <a:rPr b="0" lang="en-CA"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7"/>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8"/>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7D130-9EBC-4AE6-AEC8-E4147AC3B9BF}" type="slidenum">
              <a:rPr b="0" lang="en-CA"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10"/>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1"/>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2"/>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EFA19-769A-4115-8814-32F22BAF6903}" type="slidenum">
              <a:rPr b="0" lang="en-CA"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www.ec.gc.ca/econom/pamphlet_e.ht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95280" y="3200040"/>
            <a:ext cx="6400800" cy="16002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696464"/>
                </a:solidFill>
                <a:latin typeface="Perpetua"/>
              </a:rPr>
              <a:t>Topic 5.2.4, 5.2.5</a:t>
            </a:r>
            <a:endParaRPr b="0" lang="en-US" sz="2600" spc="-1" strike="noStrike">
              <a:solidFill>
                <a:srgbClr val="000000"/>
              </a:solidFill>
              <a:latin typeface="Perpetu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696464"/>
                </a:solidFill>
                <a:latin typeface="Perpetua"/>
              </a:rPr>
              <a:t>Page 180 Tiger Book</a:t>
            </a:r>
            <a:endParaRPr b="0" lang="en-US" sz="2600" spc="-1" strike="noStrike">
              <a:solidFill>
                <a:srgbClr val="000000"/>
              </a:solidFill>
              <a:latin typeface="Perpetua"/>
            </a:endParaRPr>
          </a:p>
        </p:txBody>
      </p:sp>
      <p:sp>
        <p:nvSpPr>
          <p:cNvPr id="22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ff"/>
                </a:solidFill>
                <a:latin typeface="Franklin Gothic Book"/>
              </a:rPr>
              <a:t>Precautionary Principle</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7779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696464"/>
                </a:solidFill>
                <a:latin typeface="Franklin Gothic Book"/>
              </a:rPr>
              <a:t>Precautionary Principle</a:t>
            </a:r>
            <a:endParaRPr b="0" lang="en-US" sz="40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fontScale="93000"/>
          </a:bodyPr>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Perpetua"/>
              </a:rPr>
              <a:t>If the effects of a human induced change would be very large, perhaps catastrophic, those responsible for the change must prove that it </a:t>
            </a:r>
            <a:r>
              <a:rPr b="1" lang="en-CA" sz="2200" spc="-1" strike="noStrike">
                <a:solidFill>
                  <a:srgbClr val="000000"/>
                </a:solidFill>
                <a:latin typeface="Perpetua"/>
              </a:rPr>
              <a:t>will not do harm </a:t>
            </a:r>
            <a:r>
              <a:rPr b="0" lang="en-CA" sz="2200" spc="-1" strike="noStrike">
                <a:solidFill>
                  <a:srgbClr val="000000"/>
                </a:solidFill>
                <a:latin typeface="Perpetua"/>
              </a:rPr>
              <a:t>before proceeding</a:t>
            </a:r>
            <a:endParaRPr b="0" lang="en-US" sz="22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Perpetua"/>
              </a:rPr>
              <a:t>This is particularly important when there is no scientific consensus on the outcome of the action</a:t>
            </a:r>
            <a:endParaRPr b="0" lang="en-US" sz="22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Perpetua"/>
              </a:rPr>
              <a:t>Guides creation of policies in the European Union, United Nations and in Canada (</a:t>
            </a:r>
            <a:r>
              <a:rPr b="0" lang="en-CA" sz="2200" spc="-1" strike="noStrike" u="sng">
                <a:solidFill>
                  <a:srgbClr val="cc9900"/>
                </a:solidFill>
                <a:uFillTx/>
                <a:latin typeface="Perpetua"/>
                <a:hlinkClick r:id="rId1"/>
              </a:rPr>
              <a:t>http://www.ec.gc.ca/econom/pamphlet_e.htm</a:t>
            </a:r>
            <a:r>
              <a:rPr b="0" lang="en-CA" sz="2200" spc="-1" strike="noStrike">
                <a:solidFill>
                  <a:srgbClr val="000000"/>
                </a:solidFill>
                <a:latin typeface="Perpetua"/>
              </a:rPr>
              <a:t>)</a:t>
            </a:r>
            <a:endParaRPr b="0" lang="en-US" sz="2200" spc="-1" strike="noStrike">
              <a:solidFill>
                <a:srgbClr val="000000"/>
              </a:solidFill>
              <a:latin typeface="Perpetua"/>
            </a:endParaRPr>
          </a:p>
          <a:p>
            <a:pPr marL="253440" indent="-2534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Perpetua"/>
              </a:rPr>
              <a:t>Examples: Addressing crime, GMO’s, Approval of Drugs, Climate Change</a:t>
            </a:r>
            <a:endParaRPr b="0" lang="en-US" sz="22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Perpetua"/>
              </a:rPr>
              <a:t>Everyday usage: </a:t>
            </a:r>
            <a:r>
              <a:rPr b="0" lang="en-US" sz="2200" spc="-1" strike="noStrike">
                <a:solidFill>
                  <a:srgbClr val="000000"/>
                </a:solidFill>
                <a:latin typeface="Perpetua"/>
              </a:rPr>
              <a:t>"an ounce of prevention is worth a pound of cure", "better safe than sorry", and "look before you leap"</a:t>
            </a:r>
            <a:endParaRPr b="0" lang="en-US" sz="2200" spc="-1" strike="noStrike">
              <a:solidFill>
                <a:srgbClr val="000000"/>
              </a:solidFill>
              <a:latin typeface="Perpetua"/>
            </a:endParaRPr>
          </a:p>
          <a:p>
            <a:pPr marL="253440" indent="-2534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92844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696464"/>
                </a:solidFill>
                <a:latin typeface="Franklin Gothic Book"/>
              </a:rPr>
              <a:t>In all definitions, the following two elements exist:</a:t>
            </a:r>
            <a:br>
              <a:rPr sz="3600"/>
            </a:br>
            <a:endParaRPr b="0" lang="en-US" sz="36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fontScale="94000"/>
          </a:bodyPr>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Perpetua"/>
              </a:rPr>
              <a:t>an expression of a need by decision-makers to anticipate harm before it occurs. Within this element lies an implicit reversal of the onus of proof: under the precautionary principle it is the responsibility of an activity proponent to establish that the proposed activity will not (or is very unlikely to) result in significant harm. </a:t>
            </a:r>
            <a:endParaRPr b="0" lang="en-US" sz="2400" spc="-1" strike="noStrike">
              <a:solidFill>
                <a:srgbClr val="000000"/>
              </a:solidFill>
              <a:latin typeface="Perpetua"/>
            </a:endParaRPr>
          </a:p>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Perpetua"/>
              </a:rPr>
              <a:t>the establishment of an obligation, if the level of harm may be high, for action to prevent or minimise such harm even when the absence of scientific certainty makes it difficult to predict the likelihood of harm occurring, or the level of harm should it occur. The need for control measures increases with both the level of possible harm and the degree of uncertainty </a:t>
            </a:r>
            <a:endParaRPr b="0" lang="en-US" sz="2400" spc="-1" strike="noStrike">
              <a:solidFill>
                <a:srgbClr val="000000"/>
              </a:solidFill>
              <a:latin typeface="Perpetua"/>
            </a:endParaRPr>
          </a:p>
          <a:p>
            <a:pPr marL="256320" indent="-25632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40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Perpetua"/>
              </a:rPr>
              <a:t>“</a:t>
            </a:r>
            <a:r>
              <a:rPr b="0" lang="en-CA" sz="2600" spc="-1" strike="noStrike">
                <a:solidFill>
                  <a:srgbClr val="000000"/>
                </a:solidFill>
                <a:latin typeface="Perpetua"/>
              </a:rPr>
              <a:t>In order to protect the environment, the precautionary approach shall be widely applied by States according to their capabilities. Where there are threats of serious or irreversible damage, lack of full scientific certainty shall not be used as a reason for postponing cost-effective measures to prevent environmental degradation.”  Principle 15 of the Rio Declaration 1992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696464"/>
                </a:solidFill>
                <a:latin typeface="Franklin Gothic Book"/>
              </a:rPr>
              <a:t>The most terrifying video you’ll ever see..</a:t>
            </a:r>
            <a:endParaRPr b="0" lang="en-US" sz="36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Perpetua"/>
              </a:rPr>
              <a:t>http://green.yahoo.com/blog/ecogeek/244/high-school-teacher-spreads-the-word-on-climate-change.htm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Precautionary Principle as it relates to current news</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fontScale="94000"/>
          </a:bodyPr>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acebook gives you cancer…</a:t>
            </a:r>
            <a:endParaRPr b="0" lang="en-US" sz="26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ttp://sciencevideos.wordpress.com/2009/02/26/facebook-gives-you-cancer-and-infantilises-the-population-ahem/</a:t>
            </a:r>
            <a:endParaRPr b="0" lang="en-US" sz="26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ell phones give you cancer…</a:t>
            </a:r>
            <a:endParaRPr b="0" lang="en-US" sz="26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ttp://www.ewg.org/cellphoneradiation/hearing-video?utm_source=cell&amp;utm_medium=email&amp;utm_content=top&amp;utm_campaign=toxics</a:t>
            </a:r>
            <a:endParaRPr b="0" lang="en-US" sz="2600" spc="-1" strike="noStrike">
              <a:solidFill>
                <a:srgbClr val="000000"/>
              </a:solidFill>
              <a:latin typeface="Perpetua"/>
            </a:endParaRPr>
          </a:p>
          <a:p>
            <a:pPr marL="256320" indent="-25632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ourse companion</a:t>
            </a:r>
            <a:r>
              <a:rPr b="0" lang="en-US" sz="4000" spc="-1" strike="noStrike">
                <a:solidFill>
                  <a:srgbClr val="696464"/>
                </a:solidFill>
                <a:latin typeface="Franklin Gothic Book"/>
              </a:rPr>
              <a:t>	</a:t>
            </a:r>
            <a:endParaRPr b="0" lang="en-US"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ad the new uncertainty principle</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age 182 #1 and 2</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0T01:38:52Z</dcterms:created>
  <dc:creator>Duncan</dc:creator>
  <dc:description/>
  <dc:language>en-US</dc:language>
  <cp:lastModifiedBy>Branksome Hall</cp:lastModifiedBy>
  <dcterms:modified xsi:type="dcterms:W3CDTF">2009-09-23T17:25:39Z</dcterms:modified>
  <cp:revision>14</cp:revision>
  <dc:subject/>
  <dc:title>Precautionary Principle</dc:title>
</cp:coreProperties>
</file>